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32E3-30A9-43D2-858C-E75DF3C3B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AFD7-44B4-4865-B368-8FA55BB390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990-9BAE-4D22-9C82-2F90EB43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415-FB1D-4E76-8776-8B235DFE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151-6B10-4D15-829E-A414B095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767A-3BF7-4368-B892-B0E23B44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A6ABC-E7F2-44F4-B954-A94F2464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CB875-B800-456E-979D-D9CBFB1B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B6CA2-29AB-47EC-8CC9-9622DA0D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9D5B-E091-4EFE-B279-FE97A06C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E3330-484C-4769-84CB-282E067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FA314-3DFC-44C0-B8DE-8DB28A90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26AB0-7B22-4CD2-9AEC-58882A5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BF5D-E8C9-4094-912C-903D6AC8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CEAEC-E7A3-4CF0-8670-5FB2E57A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585B7-3E77-4AC4-B545-3E4C0E6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1A665-03C1-4367-89FF-84028F06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5513B-7F55-4193-B9FD-95E304BC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14719-EF86-4201-B620-17142ABB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903-4E23-4222-8903-1BE39493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EB3-80E5-4B97-87B3-55EB0563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E86-08BC-4FBC-9F39-268A4BF3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3FC-B09E-4C1F-A80F-F0C62D94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672B-F94F-490E-A1EF-66FEFBA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A0F-F318-4EE4-9FDF-F56DD058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5F6-B19C-40E8-8999-960AFFD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ACEC-7072-4E0F-A0F1-C093034C66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54E6-09DD-4F77-8F7E-7B5ADB7388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7" descr=""/>
          <p:cNvPicPr/>
          <p:nvPr/>
        </p:nvPicPr>
        <p:blipFill>
          <a:blip r:embed="rId2"/>
          <a:stretch/>
        </p:blipFill>
        <p:spPr>
          <a:xfrm>
            <a:off x="1407960" y="2749680"/>
            <a:ext cx="6315120" cy="114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7"/>
          <p:cNvSpPr/>
          <p:nvPr/>
        </p:nvSpPr>
        <p:spPr>
          <a:xfrm>
            <a:off x="685800" y="1676520"/>
            <a:ext cx="763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was born in the Dominican Republ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moved to the US in December of 199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aduated from LHS in 199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"/>
          <p:cNvSpPr/>
          <p:nvPr/>
        </p:nvSpPr>
        <p:spPr>
          <a:xfrm>
            <a:off x="1310400" y="1371600"/>
            <a:ext cx="347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have 3 chrild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aac, 13 yrs o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Khrystal, 8 yrs o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aLuna, 9 month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038960" y="1371600"/>
            <a:ext cx="5524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urrently enrolled in B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is my junior year in colle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raduating in 201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1536480" y="1523880"/>
            <a:ext cx="760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social and an outgoing pers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am baseball fanatic, not to the extre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joy music, movies and the Travel Chann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9:14:26Z</dcterms:created>
  <dc:creator>training</dc:creator>
  <dc:description/>
  <dc:language>en-US</dc:language>
  <cp:lastModifiedBy>Microsoft</cp:lastModifiedBy>
  <dcterms:modified xsi:type="dcterms:W3CDTF">2011-10-02T03:26:14Z</dcterms:modified>
  <cp:revision>6</cp:revision>
  <dc:subject/>
  <dc:title>Slide 1</dc:title>
</cp:coreProperties>
</file>